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9340-6923-4F20-9EDE-5B4892D9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A808-A3CE-480E-A45D-ADCDBD9F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360A-3B98-4B98-AE8C-8F07BDA6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7416-404F-4A07-8978-7335FB83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B50B-BDC2-4DA9-BD7D-17546AA2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62B0-7C61-446C-9092-A5B5DF96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1B0B-7FE1-4CDC-9997-2D617148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410F-0E69-4311-AA98-89BF509C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9392-537C-42AD-8571-7A7455B7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2184-2D77-47D0-891C-33E50CEF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9909-3CC4-4EAC-9A5D-1FD654E9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7856-A863-451A-9AE7-FCCBC272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91A1-8CF2-44F8-B60D-AF8CCFFE3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920" y="5486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entury Schoolbook"/>
              </a:rPr>
              <a:t>PREPARED BY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entury Schoolbook"/>
              </a:rPr>
              <a:t>EN. MUHD FAZLI B. DOL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14400" y="1371600"/>
            <a:ext cx="7620120" cy="30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Jokerman"/>
              </a:rPr>
              <a:t>1.8 TRANSPORT  of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Jokerman"/>
              <a:ea typeface="Joker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Jokerman"/>
              </a:rPr>
              <a:t>ORGANIC SUBSTANCES &amp; WATER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Jokerman"/>
              <a:ea typeface="Joker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Jokerman"/>
              </a:rPr>
              <a:t>in PLAN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228600"/>
            <a:ext cx="693396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oper Black"/>
              </a:rPr>
              <a:t>BIOLOGY FORM 5</a:t>
            </a:r>
            <a:r>
              <a:rPr b="1" lang="en-US" sz="2000" spc="-1" strike="noStrike">
                <a:solidFill>
                  <a:srgbClr val="ffffff"/>
                </a:solidFill>
                <a:latin typeface="Cooper Black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oper Black"/>
              </a:rPr>
              <a:t>CHAPTER 1 :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4354560"/>
            <a:ext cx="822960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47520"/>
            <a:ext cx="716256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98760" y="0"/>
            <a:ext cx="594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7057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ff00"/>
                </a:solidFill>
                <a:uFillTx/>
                <a:latin typeface="Caesar"/>
              </a:rPr>
              <a:t>The Importance of Transpi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mped For Ev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ped For Evil"/>
              </a:rPr>
              <a:t>Creates a transpirational pull that pulls water &amp; dissolved mineral ions from the root to the le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mped For Ev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ped For Evil"/>
              </a:rPr>
              <a:t>Water supplied to the plant is used for photosynthesis &amp; cell metabolism. Mineral ions is used for cell activities &amp; growth &amp; development of the pl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lba Ma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a Matter"/>
              </a:rPr>
              <a:t>Water keeps the cell turgid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lba Matter"/>
              </a:rPr>
              <a:t> give support to leaves &amp; young stems (herbaceous plant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lba Ma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a Matter"/>
              </a:rPr>
              <a:t>To keep the plant cool, an important effect particularly in hot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lba Mat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a Matter"/>
              </a:rPr>
              <a:t>Water evaporates from the plants to the atmosphere faster than it can be absorbed from the soil, it is withdrawn from the plant cell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lba Matter"/>
              </a:rPr>
              <a:t> flaccid – leading to wil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36360"/>
            <a:ext cx="7315200" cy="678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be0e3"/>
                </a:solidFill>
                <a:uFillTx/>
                <a:latin typeface="Amped For Evil"/>
              </a:rPr>
              <a:t>PATHWAY OF WATER FROM THE SOIL TO THE LE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ff66"/>
              </a:buClr>
              <a:buFont typeface="Jui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66"/>
                </a:solidFill>
                <a:latin typeface="Juice"/>
              </a:rPr>
              <a:t>Water &amp; mineral ions are absorbed by young roots with thin epidermis. </a:t>
            </a:r>
            <a:r>
              <a:rPr b="0" lang="en-US" sz="2900" spc="-1" strike="noStrike">
                <a:solidFill>
                  <a:srgbClr val="ffffff"/>
                </a:solidFill>
                <a:latin typeface="Juice"/>
              </a:rPr>
              <a:t>(osmotic forces + active transport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ff66"/>
              </a:buClr>
              <a:buFont typeface="Jui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66"/>
                </a:solidFill>
                <a:latin typeface="Juice"/>
              </a:rPr>
              <a:t>The pressure of root hairs increases the surface area for absorption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ff66"/>
              </a:buClr>
              <a:buFont typeface="Jui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66"/>
                </a:solidFill>
                <a:latin typeface="Juice"/>
              </a:rPr>
              <a:t>The cell sap in the root hair cell contains sugars, amino acids, &amp; minerals </a:t>
            </a:r>
            <a:r>
              <a:rPr b="0" lang="en-US" sz="2900" spc="-1" strike="noStrike">
                <a:solidFill>
                  <a:srgbClr val="ffff66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ffff66"/>
                </a:solidFill>
                <a:latin typeface="Juice"/>
              </a:rPr>
              <a:t> more concentrated than the surrounding dilute soil solution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my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my Condensed"/>
              </a:rPr>
              <a:t>Water diffuses into the root cells by osmos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my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my Condensed"/>
              </a:rPr>
              <a:t>The entry of water into the root cells dilutes its cell sa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my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my Condensed"/>
              </a:rPr>
              <a:t>The cell sap of the adjacent cortex cell is now more concentrated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Army Condensed"/>
              </a:rPr>
              <a:t> water molecules diffuse into the adjacent root c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 Lolita Scorn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 Lolita Scorned"/>
              </a:rPr>
              <a:t>The process continues &amp; water is transported from one root cell to another by osmos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 Lolita Scorn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 Lolita Scorned"/>
              </a:rPr>
              <a:t>In the cells of the endodermis, mineral ions are actively pumped from these cells into the solution in the xylem vessels in the roo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 Lolita Scorn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 Lolita Scorned"/>
              </a:rPr>
              <a:t>Solution in xylem more concentrated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A Lolita Scorned"/>
              </a:rPr>
              <a:t> water enters xylem by osmos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3366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bbe0e3"/>
                </a:solidFill>
                <a:uFillTx/>
                <a:latin typeface="Neuropol"/>
              </a:rPr>
              <a:t>LEARNING OUTCO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XXII-ARM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XXII-ARMY"/>
              </a:rPr>
              <a:t>To state what translocation i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825"/>
              </a:spcBef>
              <a:buClr>
                <a:srgbClr val="bbe0e3"/>
              </a:buClr>
              <a:buFont typeface="XXII-ARM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be0e3"/>
                </a:solidFill>
                <a:latin typeface="XXII-ARMY"/>
              </a:rPr>
              <a:t>To explain the importance of translocation in plant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XXII-ARM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XXII-ARMY"/>
              </a:rPr>
              <a:t>To describe the process of transpiration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825"/>
              </a:spcBef>
              <a:buClr>
                <a:srgbClr val="bbe0e3"/>
              </a:buClr>
              <a:buFont typeface="XXII-ARM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be0e3"/>
                </a:solidFill>
                <a:latin typeface="XXII-ARMY"/>
              </a:rPr>
              <a:t>To explain the importance of transpiration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XXII-ARM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XXII-ARMY"/>
              </a:rPr>
              <a:t>To describe the pathway of water from the soil to the leaves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825"/>
              </a:spcBef>
              <a:buClr>
                <a:srgbClr val="bbe0e3"/>
              </a:buClr>
              <a:buFont typeface="XXII-ARM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be0e3"/>
                </a:solidFill>
                <a:latin typeface="XXII-ARMY"/>
              </a:rPr>
              <a:t>To state external conditions affecting transpira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610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This process creates an upward force called </a:t>
            </a:r>
            <a:r>
              <a:rPr b="0" lang="en-US" sz="3200" spc="-1" strike="noStrike">
                <a:solidFill>
                  <a:srgbClr val="ffff00"/>
                </a:solidFill>
                <a:latin typeface="Berlin Sans FB"/>
              </a:rPr>
              <a:t>ROOT PRESSURE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Helps to push water in the xylem up to a certain height in the pl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Root pressure alone is insufficient to force the water to the top part of a tall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Need </a:t>
            </a:r>
            <a:r>
              <a:rPr b="0" lang="en-US" sz="3200" spc="-1" strike="noStrike">
                <a:solidFill>
                  <a:srgbClr val="ffff00"/>
                </a:solidFill>
                <a:latin typeface="Berlin Sans FB"/>
              </a:rPr>
              <a:t>CAPILLARITY ACTION &amp; TRANSPIRATIONAL PULL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6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6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ffff"/>
                </a:solidFill>
                <a:uFillTx/>
                <a:latin typeface="Army Thin"/>
              </a:rPr>
              <a:t>GUTT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auhaus 93"/>
              </a:rPr>
              <a:t>In small plants, root pressure can push water all the way up the stem &amp; out of special pores called </a:t>
            </a:r>
            <a:r>
              <a:rPr b="0" lang="en-US" sz="3200" spc="-1" strike="noStrike">
                <a:solidFill>
                  <a:srgbClr val="ffffff"/>
                </a:solidFill>
                <a:latin typeface="Bauhaus 93"/>
              </a:rPr>
              <a:t>hydathodes</a:t>
            </a:r>
            <a:r>
              <a:rPr b="0" lang="en-US" sz="3200" spc="-1" strike="noStrike">
                <a:solidFill>
                  <a:srgbClr val="ffff00"/>
                </a:solidFill>
                <a:latin typeface="Bauhaus 93"/>
              </a:rPr>
              <a:t> at the edges of leaves </a:t>
            </a:r>
            <a:r>
              <a:rPr b="0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00"/>
                </a:solidFill>
                <a:latin typeface="Bauhaus 93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auhaus 93"/>
              </a:rPr>
              <a:t>Gut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auhaus 93"/>
              </a:rPr>
              <a:t>Occurs on </a:t>
            </a:r>
            <a:r>
              <a:rPr b="0" lang="en-US" sz="3200" spc="-1" strike="noStrike">
                <a:solidFill>
                  <a:srgbClr val="ffffff"/>
                </a:solidFill>
                <a:latin typeface="Bauhaus 93"/>
              </a:rPr>
              <a:t>cool humid morning</a:t>
            </a:r>
            <a:r>
              <a:rPr b="0" lang="en-US" sz="3200" spc="-1" strike="noStrike">
                <a:solidFill>
                  <a:srgbClr val="ffff00"/>
                </a:solidFill>
                <a:latin typeface="Bauhaus 93"/>
              </a:rPr>
              <a:t> when the air is too saturated for the water drops to evaporate from the le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4419720" cy="4724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419720" y="91440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Misfits"/>
              </a:rPr>
              <a:t>THE EXTERNAL CONDITIONS AFFECTING THE RATE OF TRANSPI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Berlin Sans FB"/>
              </a:rPr>
              <a:t>The external factors that affect the rate of evapo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Berlin Sans FB"/>
              </a:rPr>
              <a:t>Air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Berlin Sans FB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Berlin Sans FB"/>
              </a:rPr>
              <a:t>Light int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Berlin Sans FB"/>
              </a:rPr>
              <a:t>Relative hum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5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8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1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4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00"/>
                </a:solidFill>
                <a:uFillTx/>
                <a:latin typeface="Calvin and Hobbes"/>
              </a:rPr>
              <a:t>AIR MOVE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"/>
              </a:rPr>
              <a:t>Movement of air </a:t>
            </a:r>
            <a:r>
              <a:rPr b="0" lang="en-US" sz="3200" spc="-1" strike="noStrike">
                <a:solidFill>
                  <a:srgbClr val="ff00ff"/>
                </a:solidFill>
                <a:latin typeface="Century"/>
              </a:rPr>
              <a:t>carries away water  molecules</a:t>
            </a:r>
            <a:r>
              <a:rPr b="0" lang="en-US" sz="3200" spc="-1" strike="noStrike">
                <a:solidFill>
                  <a:srgbClr val="ffffff"/>
                </a:solidFill>
                <a:latin typeface="Century"/>
              </a:rPr>
              <a:t> that have diffused from the le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"/>
              </a:rPr>
              <a:t>The </a:t>
            </a:r>
            <a:r>
              <a:rPr b="0" lang="en-US" sz="3200" spc="-1" strike="noStrike">
                <a:solidFill>
                  <a:srgbClr val="ff00ff"/>
                </a:solidFill>
                <a:latin typeface="Century"/>
              </a:rPr>
              <a:t>faster the air movement (wind speed) the greater</a:t>
            </a:r>
            <a:r>
              <a:rPr b="0" lang="en-US" sz="3200" spc="-1" strike="noStrike">
                <a:solidFill>
                  <a:srgbClr val="ffffff"/>
                </a:solidFill>
                <a:latin typeface="Century"/>
              </a:rPr>
              <a:t> the rate of transpi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"/>
              </a:rPr>
              <a:t>When there is little air movement/ in still air, water vapour diffusing out of the leaf accumulates around the stom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"/>
              </a:rPr>
              <a:t>Decreases the concentration gradient of water, the transpiration rate redu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00"/>
                </a:solidFill>
                <a:uFillTx/>
                <a:latin typeface="Fontocide"/>
              </a:rPr>
              <a:t>TEMPERATU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Fontdinerdotcom Loung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ntdinerdotcom Loungy"/>
              </a:rPr>
              <a:t>A rise in temperature </a:t>
            </a:r>
            <a:r>
              <a:rPr b="0" lang="en-US" sz="3200" spc="-1" strike="noStrike">
                <a:solidFill>
                  <a:srgbClr val="ff9999"/>
                </a:solidFill>
                <a:latin typeface="Fontdinerdotcom Loungy"/>
              </a:rPr>
              <a:t>increases the kinetic energy</a:t>
            </a:r>
            <a:r>
              <a:rPr b="0" lang="en-US" sz="3200" spc="-1" strike="noStrike">
                <a:solidFill>
                  <a:srgbClr val="ffffff"/>
                </a:solidFill>
                <a:latin typeface="Fontdinerdotcom Loungy"/>
              </a:rPr>
              <a:t> of water molecules &amp; increase the rate of evaporation (transpira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Fontdinerdotcom Loung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ntdinerdotcom Loungy"/>
              </a:rPr>
              <a:t>Lowers the relative humidity of the air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Fontdinerdotcom Loungy"/>
              </a:rPr>
              <a:t> increase the rate of transpi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Fontdinerdotcom Loung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ntdinerdotcom Loungy"/>
              </a:rPr>
              <a:t>Temperature low, kinetic energy of water molecules is decrea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Fontdinerdotcom Loung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ntdinerdotcom Loungy"/>
              </a:rPr>
              <a:t>Relative humidity of the air is higher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Fontdinerdotcom Loungy"/>
              </a:rPr>
              <a:t> decrease the rate of tran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00"/>
                </a:solidFill>
                <a:uFillTx/>
                <a:latin typeface="Fontocide"/>
              </a:rPr>
              <a:t>LIGHT INTENS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un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unplay"/>
              </a:rPr>
              <a:t>The light intensity increased, the rate of evaporation increa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un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unplay"/>
              </a:rPr>
              <a:t>Light not effects evaporation but causes the stomata to open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Gunplay"/>
              </a:rPr>
              <a:t> increasing water loss from the pla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un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unplay"/>
              </a:rPr>
              <a:t>At night @ dark, stomata close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Gunplay"/>
              </a:rPr>
              <a:t> rate of transpiration decre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Hirosh"/>
                <a:ea typeface="Hirosh"/>
              </a:rPr>
              <a:t>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adScien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adScience"/>
              </a:rPr>
              <a:t>The rate of evaporation depends on the difference in concentration of water molecules in the sub-stomatal spaces &amp; in the surrounding atmosp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adScien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adScience"/>
              </a:rPr>
              <a:t>The lower the relative humidity of the surrounding atmosphere, the faster will the water vapour escape from the stom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adScien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adScience"/>
              </a:rPr>
              <a:t>High relative humidity reduces water lo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9900"/>
                </a:solidFill>
                <a:uFillTx/>
                <a:latin typeface="Ravie"/>
              </a:rPr>
              <a:t>ROOT PRESS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Font typeface="Mail Ray Stuf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Mail Ray Stuff"/>
              </a:rPr>
              <a:t>If a stem is cut just above ground level, a considerable amount of sap will exude from the cut stump, showing that there is a force pushing water up the stem from the roo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Font typeface="Mail Ray Stuf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Mail Ray Stuff"/>
              </a:rPr>
              <a:t>Its ROOT PRESSURE </a:t>
            </a:r>
            <a:r>
              <a:rPr b="0" lang="en-US" sz="3600" spc="-1" strike="noStrike">
                <a:solidFill>
                  <a:srgbClr val="99cc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99ccff"/>
                </a:solidFill>
                <a:latin typeface="Mail Ray Stuff"/>
              </a:rPr>
              <a:t> The result of an active process in which energy from ATP is us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6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1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9900"/>
                </a:solidFill>
                <a:uFillTx/>
                <a:latin typeface="Ravie"/>
              </a:rPr>
              <a:t>ROOT PRESS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Mail Ray Stuf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Mail Ray Stuff"/>
              </a:rPr>
              <a:t>Root pressure alone is not strong enough to drive water to the tops of tall trees at the speeds achieved during a normal growing s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00"/>
                </a:solidFill>
                <a:uFillTx/>
                <a:latin typeface="Amped For Evil"/>
              </a:rPr>
              <a:t>TRANSLOC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heeseburg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heeseburger"/>
              </a:rPr>
              <a:t>The transport of dissolved organic food substances by the phlo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heeseburger"/>
              </a:rPr>
              <a:t>IMPORTANCE OF TRANS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heeseburg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eeseburger"/>
              </a:rPr>
              <a:t>Ensures a plant’s survi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heeseburg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eeseburger"/>
              </a:rPr>
              <a:t>Organic food molecules can be transported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heeseburg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eeseburger"/>
              </a:rPr>
              <a:t>To the growing regions in the plant for growth &amp;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heeseburg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eeseburger"/>
              </a:rPr>
              <a:t>To the plant cells for metabo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heeseburg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eeseburger"/>
              </a:rPr>
              <a:t>Downwards from the leaves to the storage organs such as the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99ccff"/>
                </a:solidFill>
                <a:uFillTx/>
                <a:latin typeface="Ravie"/>
              </a:rPr>
              <a:t>COHESION &amp; ADHESION OF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Misfit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isfits"/>
              </a:rPr>
              <a:t>COHESION = </a:t>
            </a:r>
            <a:r>
              <a:rPr b="0" lang="en-US" sz="3200" spc="-1" strike="noStrike">
                <a:solidFill>
                  <a:srgbClr val="ffffff"/>
                </a:solidFill>
                <a:latin typeface="Misfits"/>
              </a:rPr>
              <a:t>the force of attraction between the same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Misfit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isfits"/>
              </a:rPr>
              <a:t>The cohesive forces between water molecules hold the continuous columns of water together &amp; when water transpires from the leaf, the whole of the water column moves up the xylem vess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5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0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Misfit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isfits"/>
              </a:rPr>
              <a:t>ADHESION</a:t>
            </a:r>
            <a:r>
              <a:rPr b="0" lang="en-US" sz="3200" spc="-1" strike="noStrike">
                <a:solidFill>
                  <a:srgbClr val="000000"/>
                </a:solidFill>
                <a:latin typeface="Misfit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Misfits"/>
              </a:rPr>
              <a:t>= the force of attraction between different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Misfit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Misfits"/>
              </a:rPr>
              <a:t>Water molecules tend to adhere to the walls of the xylem vess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Misfit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sfits"/>
              </a:rPr>
              <a:t>The adhesive forces can support a considerable mass of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Misfit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isfits"/>
              </a:rPr>
              <a:t>Cohesion + adhesion = capillarity</a:t>
            </a:r>
            <a:r>
              <a:rPr b="0" lang="en-US" sz="3200" spc="-1" strike="noStrike">
                <a:solidFill>
                  <a:srgbClr val="ffffff"/>
                </a:solidFill>
                <a:latin typeface="Misfits"/>
              </a:rPr>
              <a:t> (the rise of water in a capillary tub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7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2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7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2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00"/>
                </a:solidFill>
                <a:uFillTx/>
                <a:latin typeface="Cheeseburger"/>
              </a:rPr>
              <a:t>OPENING &amp; CLOSING OF STOMAT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epublikap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epublikaps"/>
              </a:rPr>
              <a:t>Dicotyledonous leaves = on the lower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epublikap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epublikaps"/>
              </a:rPr>
              <a:t>Monocotyledonous leaves = both the upper &amp; lower surf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epublikap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epublikaps"/>
              </a:rPr>
              <a:t>Each stoma consists of a pair of kidney-shaped guard cells surrounding a stomatal p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4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Heartbreak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artbreaker"/>
              </a:rPr>
              <a:t>A guard cell has a thinner elastic outer cell wall &amp; a thicker, less elastic inner cell wall. It has a nucleus, cytoplasm &amp; chloroplas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Heartbreak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artbreaker"/>
              </a:rPr>
              <a:t>The opening &amp; closing of the stomata in the leaf controls the diffusion of CO2 &amp; O2 into &amp; out of a leaf as well as the rate of transpir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1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6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ff00"/>
                </a:solidFill>
                <a:uFillTx/>
                <a:latin typeface="Calvin and Hobbes"/>
              </a:rPr>
              <a:t>STOMATAL OPENING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my T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my Thin"/>
              </a:rPr>
              <a:t>DAY : photosynthesis occurs &amp; CO2 level is low in the lea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Font typeface="Army T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my Thin"/>
              </a:rPr>
              <a:t>Potassium ions (K+) diffuse from surrounding epidermal subsidiary cells into the guard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my T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my Thin"/>
              </a:rPr>
              <a:t>In many plant species, starch stored in the guard cell is converted into ma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Font typeface="Army T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my Thin"/>
              </a:rPr>
              <a:t>The accumulation of K+ &amp; malate ions increase the osmotic pressure in the guard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3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8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3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my T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my Thin"/>
              </a:rPr>
              <a:t>Water enters by osmosis from surrounding epidermal cells into the guar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my T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my Thin"/>
              </a:rPr>
              <a:t>Two guard cells become turgid &amp; curve outward &amp; the stoma op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ff00"/>
                </a:solidFill>
                <a:uFillTx/>
                <a:latin typeface="Army Thin"/>
              </a:rPr>
              <a:t>STOMATAL CLOS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Olymp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Olympus"/>
              </a:rPr>
              <a:t>NIGHT : no photosynthesis &amp; CO2 level is high. Potassium ions move out of the guard cells into the epidermal cel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Olymp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Olympus"/>
              </a:rPr>
              <a:t>Malate ions are converted to starch. The osmotic pressure in the guard cells decrea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Olymp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Olympus"/>
              </a:rPr>
              <a:t>Water diffuses out to the surrounding epidermal cells by osmos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XXII-ARM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XXII-ARMY"/>
              </a:rPr>
              <a:t>Guard cells become flaccid &amp; stoma cl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XXII-ARM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XXII-ARMY"/>
              </a:rPr>
              <a:t>The stomata also close, when there is insufficient water supply &amp; the transpiration rate is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6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1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XXII-ARMY"/>
              </a:rPr>
              <a:t>Rasulullah bersabda:</a:t>
            </a:r>
            <a:r>
              <a:rPr b="0" lang="en-US" sz="4000" spc="-1" strike="noStrike">
                <a:solidFill>
                  <a:srgbClr val="ffff00"/>
                </a:solidFill>
                <a:latin typeface="XXII-ARM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XXII-ARMY"/>
              </a:rPr>
              <a:t>Yang menjadikan orang mukmin itu pemurah adalah agamanya,yang menjadikan orang mukmin itu mempunyai kehormatan adalah akalnya dan yang menjadikan orang mukmin itu mulia adalah budi pekertinya</a:t>
            </a:r>
            <a:r>
              <a:rPr b="0" lang="en-US" sz="3600" spc="-1" strike="noStrike">
                <a:solidFill>
                  <a:srgbClr val="ffff00"/>
                </a:solidFill>
                <a:latin typeface="XXII-ARM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8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3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990720" y="685800"/>
            <a:ext cx="761976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END OF CHAPTER 1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8120" y="5105520"/>
            <a:ext cx="22381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XERCISE 1.8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28195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68400"/>
            <a:ext cx="6934320" cy="67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ff00"/>
                </a:solidFill>
                <a:uFillTx/>
                <a:latin typeface="Chick"/>
              </a:rPr>
              <a:t>TRANSPIR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my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my Condensed"/>
              </a:rPr>
              <a:t>The loss of water as water vapour from a living plant to the atmosphere due to evapo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my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my Condensed"/>
              </a:rPr>
              <a:t>Most of the water is lost through the </a:t>
            </a:r>
            <a:r>
              <a:rPr b="1" i="1" lang="en-US" sz="3200" spc="-1" strike="noStrike">
                <a:solidFill>
                  <a:srgbClr val="003399"/>
                </a:solidFill>
                <a:latin typeface="Army Condensed"/>
              </a:rPr>
              <a:t>stomata</a:t>
            </a:r>
            <a:r>
              <a:rPr b="0" lang="en-US" sz="3200" spc="-1" strike="noStrike">
                <a:solidFill>
                  <a:srgbClr val="003399"/>
                </a:solidFill>
                <a:latin typeface="Army Condense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my Condensed"/>
              </a:rPr>
              <a:t>of le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my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my Condensed"/>
              </a:rPr>
              <a:t>A small amount is lost through the </a:t>
            </a:r>
            <a:r>
              <a:rPr b="1" i="1" lang="en-US" sz="3200" spc="-1" strike="noStrike">
                <a:solidFill>
                  <a:srgbClr val="003399"/>
                </a:solidFill>
                <a:latin typeface="Army Condensed"/>
              </a:rPr>
              <a:t>cuticle</a:t>
            </a:r>
            <a:r>
              <a:rPr b="0" lang="en-US" sz="3200" spc="-1" strike="noStrike">
                <a:solidFill>
                  <a:srgbClr val="ffffff"/>
                </a:solidFill>
                <a:latin typeface="Army Condensed"/>
              </a:rPr>
              <a:t> or through the </a:t>
            </a:r>
            <a:r>
              <a:rPr b="1" i="1" lang="en-US" sz="3200" spc="-1" strike="noStrike">
                <a:solidFill>
                  <a:srgbClr val="003399"/>
                </a:solidFill>
                <a:latin typeface="Army Condensed"/>
              </a:rPr>
              <a:t>lenticels</a:t>
            </a:r>
            <a:r>
              <a:rPr b="0" lang="en-US" sz="3200" spc="-1" strike="noStrike">
                <a:solidFill>
                  <a:srgbClr val="ffffff"/>
                </a:solidFill>
                <a:latin typeface="Army Condensed"/>
              </a:rPr>
              <a:t> in woody 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eltron Urb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Weltron Urban"/>
              </a:rPr>
              <a:t>Three main sites</a:t>
            </a:r>
            <a:r>
              <a:rPr b="0" lang="en-US" sz="3200" spc="-1" strike="noStrike">
                <a:solidFill>
                  <a:srgbClr val="ffffff"/>
                </a:solidFill>
                <a:latin typeface="Weltron Urban"/>
              </a:rPr>
              <a:t> of transpiration are</a:t>
            </a:r>
            <a:r>
              <a:rPr b="0" lang="en-US" sz="2800" spc="-1" strike="noStrike">
                <a:solidFill>
                  <a:srgbClr val="ffffff"/>
                </a:solidFill>
                <a:latin typeface="Weltron Urb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Font typeface="Weltron Urb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Weltron Urban"/>
              </a:rPr>
              <a:t>STOMATA </a:t>
            </a:r>
            <a:r>
              <a:rPr b="0" lang="en-US" sz="2600" spc="-1" strike="noStrike">
                <a:solidFill>
                  <a:srgbClr val="ffffff"/>
                </a:solidFill>
                <a:latin typeface="Weltron Urban"/>
              </a:rPr>
              <a:t>– 90% of transpiration takes place through minute pores on leaves called stom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Font typeface="Weltron Urb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Weltron Urban"/>
              </a:rPr>
              <a:t>CUTICLE</a:t>
            </a:r>
            <a:r>
              <a:rPr b="0" lang="en-US" sz="2600" spc="-1" strike="noStrike">
                <a:solidFill>
                  <a:srgbClr val="ffffff"/>
                </a:solidFill>
                <a:latin typeface="Weltron Urban"/>
              </a:rPr>
              <a:t> – 10% of transpiration takes place through the cuticle. The amount of water loss varies with the thickness of the waxy cuti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Font typeface="Weltron Urb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Weltron Urban"/>
              </a:rPr>
              <a:t>LENTICELS</a:t>
            </a:r>
            <a:r>
              <a:rPr b="0" lang="en-US" sz="2600" spc="-1" strike="noStrike">
                <a:solidFill>
                  <a:srgbClr val="ffffff"/>
                </a:solidFill>
                <a:latin typeface="Weltron Urban"/>
              </a:rPr>
              <a:t> – small pores in the stem which allow gaseous exchange. Only small amounts of water are lost through the lentice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hangha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hanghai"/>
              </a:rPr>
              <a:t>Transpiration occurs mainly during the day when the stomata are ope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hangha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hanghai"/>
              </a:rPr>
              <a:t>Heat from the sun causes the water to evaporate from the walls of the spongy mesophyll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hangha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hanghai"/>
              </a:rPr>
              <a:t>The water vapour accumulates in the substomatal air chambers before diffusing from the plant through the open stom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 Lolita Scorn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 Lolita Scorned"/>
              </a:rPr>
              <a:t>Water move into the mesophyll cells by osmosis from the adjacent ce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 Lolita Scorn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 Lolita Scorned"/>
              </a:rPr>
              <a:t>Water flows from the xylem vessels along a chain of cells to the outermost mesophyll ce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 Lolita Scorn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 Lolita Scorned"/>
              </a:rPr>
              <a:t>Water is pulled through the xylem vessels from the root to the leav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3:55:57Z</dcterms:created>
  <dc:creator>MUHD FAZLI &amp; NOORUL WAHIDAH</dc:creator>
  <dc:description/>
  <dc:language>en-US</dc:language>
  <cp:lastModifiedBy>FAZLI &amp; WAWA </cp:lastModifiedBy>
  <dcterms:modified xsi:type="dcterms:W3CDTF">2008-03-17T23:50:43Z</dcterms:modified>
  <cp:revision>57</cp:revision>
  <dc:subject/>
  <dc:title>Slide 1</dc:title>
</cp:coreProperties>
</file>