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326-4FF6-4DB3-B8E4-C8ACE4DC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BDD-CF5E-49D9-AF87-838A7401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22B-DFFF-4B9A-AEAE-941A02F5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C5D-35BE-4AF8-91CC-8EED0D16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354-D1A3-4435-A104-0ED594A0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4BF-5177-4D21-A6CA-946BC66B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81D-93A2-4A5E-8123-31D5D9C8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E61-CF69-4B07-96E4-EE5679C4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513-A1A2-4B62-8A57-F327ADDA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BD9-DDF6-47F9-BA58-4E1E8A98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1EB-CC1D-4F57-BAC5-3499ED4A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E97-5698-4657-81E5-CC712146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9160-1BAA-4513-A6A4-706AD6224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Schoolbook"/>
              </a:rPr>
              <a:t>PREPARED B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Schoolbook"/>
              </a:rPr>
              <a:t>EN. MUHD FAZLI B. DO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1371600"/>
            <a:ext cx="762012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1.8 TRANSPORT  of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ORGANIC SUBSTANCES &amp; WATE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in PLAN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28600"/>
            <a:ext cx="693396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oper Black"/>
              </a:rPr>
              <a:t>BIOLOGY FORM 5</a:t>
            </a:r>
            <a:r>
              <a:rPr b="1" lang="en-US" sz="2000" spc="-1" strike="noStrike">
                <a:solidFill>
                  <a:srgbClr val="ffffff"/>
                </a:solidFill>
                <a:latin typeface="Cooper Black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oper Black"/>
              </a:rPr>
              <a:t>CHAPTER 1 :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354560"/>
            <a:ext cx="822960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47520"/>
            <a:ext cx="71625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98760" y="0"/>
            <a:ext cx="594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00"/>
                </a:solidFill>
                <a:uFillTx/>
                <a:latin typeface="Caesar"/>
              </a:rPr>
              <a:t>The Importance of Transpi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mped For Ev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ped For Evil"/>
              </a:rPr>
              <a:t>Creates a transpirational pull that pulls water &amp; dissolved mineral ions from the root to the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mped For Ev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ped For Evil"/>
              </a:rPr>
              <a:t>Water supplied to the plant is used for photosynthesis &amp; cell metabolism. Mineral ions is used for cell activities &amp; growth &amp; development of the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lba Ma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a Matter"/>
              </a:rPr>
              <a:t>Water keeps the cell turgi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lba Matter"/>
              </a:rPr>
              <a:t> give support to leaves &amp; young stems (herbaceous plan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lba Ma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a Matter"/>
              </a:rPr>
              <a:t>To keep the plant cool, an important effect particularly in hot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lba Ma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a Matter"/>
              </a:rPr>
              <a:t>Water evaporates from the plants to the atmosphere faster than it can be absorbed from the soil, it is withdrawn from the plant cell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lba Matter"/>
              </a:rPr>
              <a:t> flaccid – leading to wi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36360"/>
            <a:ext cx="731520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be0e3"/>
                </a:solidFill>
                <a:uFillTx/>
                <a:latin typeface="Amped For Evil"/>
              </a:rPr>
              <a:t>PATHWAY OF WATER FROM THE SOIL TO THE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ff66"/>
              </a:buClr>
              <a:buFont typeface="Jui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66"/>
                </a:solidFill>
                <a:latin typeface="Juice"/>
              </a:rPr>
              <a:t>Water &amp; mineral ions are absorbed by young roots with thin epidermis. </a:t>
            </a:r>
            <a:r>
              <a:rPr b="0" lang="en-US" sz="2900" spc="-1" strike="noStrike">
                <a:solidFill>
                  <a:srgbClr val="ffffff"/>
                </a:solidFill>
                <a:latin typeface="Juice"/>
              </a:rPr>
              <a:t>(osmotic forces + active transport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ff66"/>
              </a:buClr>
              <a:buFont typeface="Jui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66"/>
                </a:solidFill>
                <a:latin typeface="Juice"/>
              </a:rPr>
              <a:t>The pressure of root hairs increases the surface area for absorp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ff66"/>
              </a:buClr>
              <a:buFont typeface="Jui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66"/>
                </a:solidFill>
                <a:latin typeface="Juice"/>
              </a:rPr>
              <a:t>The cell sap in the root hair cell contains sugars, amino acids, &amp; minerals </a:t>
            </a:r>
            <a:r>
              <a:rPr b="0" lang="en-US" sz="29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fff66"/>
                </a:solidFill>
                <a:latin typeface="Juice"/>
              </a:rPr>
              <a:t> more concentrated than the surrounding dilute soil solu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my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my Condensed"/>
              </a:rPr>
              <a:t>Water diffuses into the root cells by osm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my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my Condensed"/>
              </a:rPr>
              <a:t>The entry of water into the root cells dilutes its cell sa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my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my Condensed"/>
              </a:rPr>
              <a:t>The cell sap of the adjacent cortex cell is now more concentrated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my Condensed"/>
              </a:rPr>
              <a:t> water molecules diffuse into the adjacent root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 Lolita Scorn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 Lolita Scorned"/>
              </a:rPr>
              <a:t>The process continues &amp; water is transported from one root cell to another by osm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 Lolita Scorn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 Lolita Scorned"/>
              </a:rPr>
              <a:t>In the cells of the endodermis, mineral ions are actively pumped from these cells into the solution in the xylem vessels in the ro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 Lolita Scorn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 Lolita Scorned"/>
              </a:rPr>
              <a:t>Solution in xylem more concentrated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 Lolita Scorned"/>
              </a:rPr>
              <a:t> water enters xylem by osm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3366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bbe0e3"/>
                </a:solidFill>
                <a:uFillTx/>
                <a:latin typeface="Neuropol"/>
              </a:rPr>
              <a:t>LEARNING OUTC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XXII-ARMY"/>
              </a:rPr>
              <a:t>To state what translocation i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25"/>
              </a:spcBef>
              <a:buClr>
                <a:srgbClr val="bbe0e3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be0e3"/>
                </a:solidFill>
                <a:latin typeface="XXII-ARMY"/>
              </a:rPr>
              <a:t>To explain the importance of translocation in plant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XXII-ARMY"/>
              </a:rPr>
              <a:t>To describe the process of transpiration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25"/>
              </a:spcBef>
              <a:buClr>
                <a:srgbClr val="bbe0e3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be0e3"/>
                </a:solidFill>
                <a:latin typeface="XXII-ARMY"/>
              </a:rPr>
              <a:t>To explain the importance of transpiration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XXII-ARMY"/>
              </a:rPr>
              <a:t>To describe the pathway of water from the soil to the leaves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25"/>
              </a:spcBef>
              <a:buClr>
                <a:srgbClr val="bbe0e3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be0e3"/>
                </a:solidFill>
                <a:latin typeface="XXII-ARMY"/>
              </a:rPr>
              <a:t>To state external conditions affecting transpir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This process creates an upward force called </a:t>
            </a:r>
            <a:r>
              <a:rPr b="0" lang="en-US" sz="3200" spc="-1" strike="noStrike">
                <a:solidFill>
                  <a:srgbClr val="ffff00"/>
                </a:solidFill>
                <a:latin typeface="Berlin Sans FB"/>
              </a:rPr>
              <a:t>ROOT PRESSURE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Helps to push water in the xylem up to a certain height in the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Root pressure alone is insufficient to force the water to the top part of a tall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Need </a:t>
            </a:r>
            <a:r>
              <a:rPr b="0" lang="en-US" sz="3200" spc="-1" strike="noStrike">
                <a:solidFill>
                  <a:srgbClr val="ffff00"/>
                </a:solidFill>
                <a:latin typeface="Berlin Sans FB"/>
              </a:rPr>
              <a:t>CAPILLARITY ACTION &amp; TRANSPIRATIONAL PULL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ffff"/>
                </a:solidFill>
                <a:uFillTx/>
                <a:latin typeface="Army Thin"/>
              </a:rPr>
              <a:t>GUTT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auhaus 93"/>
              </a:rPr>
              <a:t>In small plants, root pressure can push water all the way up the stem &amp; out of special pores called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hydathodes</a:t>
            </a:r>
            <a:r>
              <a:rPr b="0" lang="en-US" sz="3200" spc="-1" strike="noStrike">
                <a:solidFill>
                  <a:srgbClr val="ffff00"/>
                </a:solidFill>
                <a:latin typeface="Bauhaus 93"/>
              </a:rPr>
              <a:t> at the edges of leaves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Bauhaus 93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Gut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auhaus 93"/>
              </a:rPr>
              <a:t>Occurs on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cool humid morning</a:t>
            </a:r>
            <a:r>
              <a:rPr b="0" lang="en-US" sz="3200" spc="-1" strike="noStrike">
                <a:solidFill>
                  <a:srgbClr val="ffff00"/>
                </a:solidFill>
                <a:latin typeface="Bauhaus 93"/>
              </a:rPr>
              <a:t> when the air is too saturated for the water drops to evaporate from the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419720" cy="4724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19720" y="9144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Misfits"/>
              </a:rPr>
              <a:t>THE EXTERNAL CONDITIONS AFFECTING THE RATE OF TRAN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Berlin Sans FB"/>
              </a:rPr>
              <a:t>The external factors that affect the rate of evap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Berlin Sans FB"/>
              </a:rPr>
              <a:t>Air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Berlin Sans FB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Berlin Sans FB"/>
              </a:rPr>
              <a:t>Light int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Berlin Sans FB"/>
              </a:rPr>
              <a:t>Relative hum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Calvin and Hobbes"/>
              </a:rPr>
              <a:t>AIR MOV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Movement of air </a:t>
            </a:r>
            <a:r>
              <a:rPr b="0" lang="en-US" sz="3200" spc="-1" strike="noStrike">
                <a:solidFill>
                  <a:srgbClr val="ff00ff"/>
                </a:solidFill>
                <a:latin typeface="Century"/>
              </a:rPr>
              <a:t>carries away water  molecules</a:t>
            </a: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 that have diffused from the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The </a:t>
            </a:r>
            <a:r>
              <a:rPr b="0" lang="en-US" sz="3200" spc="-1" strike="noStrike">
                <a:solidFill>
                  <a:srgbClr val="ff00ff"/>
                </a:solidFill>
                <a:latin typeface="Century"/>
              </a:rPr>
              <a:t>faster the air movement (wind speed) the greater</a:t>
            </a: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 the rate of transpi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When there is little air movement/ in still air, water vapour diffusing out of the leaf accumulates around the stom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Decreases the concentration gradient of water, the transpiration rate redu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Fontocide"/>
              </a:rPr>
              <a:t>TEMPERA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ontdinerdotcom Loung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A rise in temperature </a:t>
            </a:r>
            <a:r>
              <a:rPr b="0" lang="en-US" sz="3200" spc="-1" strike="noStrike">
                <a:solidFill>
                  <a:srgbClr val="ff9999"/>
                </a:solidFill>
                <a:latin typeface="Fontdinerdotcom Loungy"/>
              </a:rPr>
              <a:t>increases the kinetic energy</a:t>
            </a: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 of water molecules &amp; increase the rate of evaporation (transpir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ontdinerdotcom Loung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Lowers the relative humidity of the ai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 increase the rate of transpi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ontdinerdotcom Loung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Temperature low, kinetic energy of water molecules is de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ontdinerdotcom Loung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Relative humidity of the air is high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 decrease the rate of tra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Fontocide"/>
              </a:rPr>
              <a:t>LIGHT INTEN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un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nplay"/>
              </a:rPr>
              <a:t>The light intensity increased, the rate of evaporation incre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un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nplay"/>
              </a:rPr>
              <a:t>Light not effects evaporation but causes the stomata to open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Gunplay"/>
              </a:rPr>
              <a:t> increasing water loss from the pl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un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nplay"/>
              </a:rPr>
              <a:t>At night @ dark, stomata close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Gunplay"/>
              </a:rPr>
              <a:t> rate of transpiration de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Hirosh"/>
                <a:ea typeface="Hirosh"/>
              </a:rPr>
              <a:t>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dScien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dScience"/>
              </a:rPr>
              <a:t>The rate of evaporation depends on the difference in concentration of water molecules in the sub-stomatal spaces &amp; in the surrounding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dScien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dScience"/>
              </a:rPr>
              <a:t>The lower the relative humidity of the surrounding atmosphere, the faster will the water vapour escape from the stom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dScien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dScience"/>
              </a:rPr>
              <a:t>High relative humidity reduces water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9900"/>
                </a:solidFill>
                <a:uFillTx/>
                <a:latin typeface="Ravie"/>
              </a:rPr>
              <a:t>ROOT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Font typeface="Mail Ray Stuf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Mail Ray Stuff"/>
              </a:rPr>
              <a:t>If a stem is cut just above ground level, a considerable amount of sap will exude from the cut stump, showing that there is a force pushing water up the stem from the roo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Font typeface="Mail Ray Stuf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Mail Ray Stuff"/>
              </a:rPr>
              <a:t>Its ROOT PRESSURE </a:t>
            </a:r>
            <a:r>
              <a:rPr b="0" lang="en-US" sz="3600" spc="-1" strike="noStrike">
                <a:solidFill>
                  <a:srgbClr val="99cc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99ccff"/>
                </a:solidFill>
                <a:latin typeface="Mail Ray Stuff"/>
              </a:rPr>
              <a:t> The result of an active process in which energy from ATP is u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9900"/>
                </a:solidFill>
                <a:uFillTx/>
                <a:latin typeface="Ravie"/>
              </a:rPr>
              <a:t>ROOT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Mail Ray Stuf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Mail Ray Stuff"/>
              </a:rPr>
              <a:t>Root pressure alone is not strong enough to drive water to the tops of tall trees at the speeds achieved during a normal growing s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00"/>
                </a:solidFill>
                <a:uFillTx/>
                <a:latin typeface="Amped For Evil"/>
              </a:rPr>
              <a:t>TRANSLOC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heeseburg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heeseburger"/>
              </a:rPr>
              <a:t>The transport of dissolved organic food substances by the phlo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eeseburger"/>
              </a:rPr>
              <a:t>IMPORTANCE OF TRANS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heeseburg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eeseburger"/>
              </a:rPr>
              <a:t>Ensures a plant’s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heeseburg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eeseburger"/>
              </a:rPr>
              <a:t>Organic food molecules can be transporte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heeseburg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eeseburger"/>
              </a:rPr>
              <a:t>To the growing regions in the plant for growth &amp;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heeseburg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eeseburger"/>
              </a:rPr>
              <a:t>To the plant cells for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heeseburg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eeseburger"/>
              </a:rPr>
              <a:t>Downwards from the leaves to the storage organs such as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ccff"/>
                </a:solidFill>
                <a:uFillTx/>
                <a:latin typeface="Ravie"/>
              </a:rPr>
              <a:t>COHESION &amp; ADHESION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isfit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sfits"/>
              </a:rPr>
              <a:t>COHESION = </a:t>
            </a:r>
            <a:r>
              <a:rPr b="0" lang="en-US" sz="3200" spc="-1" strike="noStrike">
                <a:solidFill>
                  <a:srgbClr val="ffffff"/>
                </a:solidFill>
                <a:latin typeface="Misfits"/>
              </a:rPr>
              <a:t>the force of attraction between the same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isfit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sfits"/>
              </a:rPr>
              <a:t>The cohesive forces between water molecules hold the continuous columns of water together &amp; when water transpires from the leaf, the whole of the water column moves up the xylem vess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isfit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sfits"/>
              </a:rPr>
              <a:t>ADHESION</a:t>
            </a:r>
            <a:r>
              <a:rPr b="0" lang="en-US" sz="3200" spc="-1" strike="noStrike">
                <a:solidFill>
                  <a:srgbClr val="000000"/>
                </a:solidFill>
                <a:latin typeface="Misfit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sfits"/>
              </a:rPr>
              <a:t>= the force of attraction between different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Misfit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Misfits"/>
              </a:rPr>
              <a:t>Water molecules tend to adhere to the walls of the xylem vess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isfit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sfits"/>
              </a:rPr>
              <a:t>The adhesive forces can support a considerable mass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isfit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sfits"/>
              </a:rPr>
              <a:t>Cohesion + adhesion = capillarity</a:t>
            </a:r>
            <a:r>
              <a:rPr b="0" lang="en-US" sz="3200" spc="-1" strike="noStrike">
                <a:solidFill>
                  <a:srgbClr val="ffffff"/>
                </a:solidFill>
                <a:latin typeface="Misfits"/>
              </a:rPr>
              <a:t> (the rise of water in a capillary tub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7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Cheeseburger"/>
              </a:rPr>
              <a:t>OPENING &amp; CLOSING OF STOMA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epublikap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epublikaps"/>
              </a:rPr>
              <a:t>Dicotyledonous leaves = on the lower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epublikap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epublikaps"/>
              </a:rPr>
              <a:t>Monocotyledonous leaves = both the upper &amp; lower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epublikap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epublikaps"/>
              </a:rPr>
              <a:t>Each stoma consists of a pair of kidney-shaped guard cells surrounding a stomatal p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Heartbreak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artbreaker"/>
              </a:rPr>
              <a:t>A guard cell has a thinner elastic outer cell wall &amp; a thicker, less elastic inner cell wall. It has a nucleus, cytoplasm &amp; chloropla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Heartbreak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artbreaker"/>
              </a:rPr>
              <a:t>The opening &amp; closing of the stomata in the leaf controls the diffusion of CO2 &amp; O2 into &amp; out of a leaf as well as the rate of transpir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6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vin and Hobbes"/>
              </a:rPr>
              <a:t>STOMATAL OPEN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my T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my Thin"/>
              </a:rPr>
              <a:t>DAY : photosynthesis occurs &amp; CO2 level is low in the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my T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my Thin"/>
              </a:rPr>
              <a:t>Potassium ions (K+) diffuse from surrounding epidermal subsidiary cells into the guard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my T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my Thin"/>
              </a:rPr>
              <a:t>In many plant species, starch stored in the guard cell is converted into ma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my T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my Thin"/>
              </a:rPr>
              <a:t>The accumulation of K+ &amp; malate ions increase the osmotic pressure in the guard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3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my T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my Thin"/>
              </a:rPr>
              <a:t>Water enters by osmosis from surrounding epidermal cells into the guar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my T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my Thin"/>
              </a:rPr>
              <a:t>Two guard cells become turgid &amp; curve outward &amp; the stoma op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ff00"/>
                </a:solidFill>
                <a:uFillTx/>
                <a:latin typeface="Army Thin"/>
              </a:rPr>
              <a:t>STOMATAL CLOS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Olymp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Olympus"/>
              </a:rPr>
              <a:t>NIGHT : no photosynthesis &amp; CO2 level is high. Potassium ions move out of the guard cells into the epidermal ce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Olymp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Olympus"/>
              </a:rPr>
              <a:t>Malate ions are converted to starch. The osmotic pressure in the guard cells decre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Olymp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Olympus"/>
              </a:rPr>
              <a:t>Water diffuses out to the surrounding epidermal cells by osm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XXII-ARMY"/>
              </a:rPr>
              <a:t>Guard cells become flaccid &amp; stoma cl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XXII-ARMY"/>
              </a:rPr>
              <a:t>The stomata also close, when there is insufficient water supply &amp; the transpiration rate is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XXII-ARMY"/>
              </a:rPr>
              <a:t>Rasulullah bersabda:</a:t>
            </a:r>
            <a:r>
              <a:rPr b="0" lang="en-US" sz="4000" spc="-1" strike="noStrike">
                <a:solidFill>
                  <a:srgbClr val="ffff00"/>
                </a:solidFill>
                <a:latin typeface="XXII-ARM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XXII-ARMY"/>
              </a:rPr>
              <a:t>Yang menjadikan orang mukmin itu pemurah adalah agamanya,yang menjadikan orang mukmin itu mempunyai kehormatan adalah akalnya dan yang menjadikan orang mukmin itu mulia adalah budi pekertinya</a:t>
            </a:r>
            <a:r>
              <a:rPr b="0" lang="en-US" sz="3600" spc="-1" strike="noStrike">
                <a:solidFill>
                  <a:srgbClr val="ffff00"/>
                </a:solidFill>
                <a:latin typeface="XXII-ARM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3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90720" y="685800"/>
            <a:ext cx="76197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ND OF CHAPTER 1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8120" y="5105520"/>
            <a:ext cx="2238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ERCISE 1.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2819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68400"/>
            <a:ext cx="693432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ff00"/>
                </a:solidFill>
                <a:uFillTx/>
                <a:latin typeface="Chick"/>
              </a:rPr>
              <a:t>TRANSPIR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my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my Condensed"/>
              </a:rPr>
              <a:t>The loss of water as water vapour from a living plant to the atmosphere due to evap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my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my Condensed"/>
              </a:rPr>
              <a:t>Most of the water is lost through the </a:t>
            </a:r>
            <a:r>
              <a:rPr b="1" i="1" lang="en-US" sz="3200" spc="-1" strike="noStrike">
                <a:solidFill>
                  <a:srgbClr val="003399"/>
                </a:solidFill>
                <a:latin typeface="Army Condensed"/>
              </a:rPr>
              <a:t>stomata</a:t>
            </a:r>
            <a:r>
              <a:rPr b="0" lang="en-US" sz="3200" spc="-1" strike="noStrike">
                <a:solidFill>
                  <a:srgbClr val="003399"/>
                </a:solidFill>
                <a:latin typeface="Army Condense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my Condensed"/>
              </a:rPr>
              <a:t>of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my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my Condensed"/>
              </a:rPr>
              <a:t>A small amount is lost through the </a:t>
            </a:r>
            <a:r>
              <a:rPr b="1" i="1" lang="en-US" sz="3200" spc="-1" strike="noStrike">
                <a:solidFill>
                  <a:srgbClr val="003399"/>
                </a:solidFill>
                <a:latin typeface="Army Condensed"/>
              </a:rPr>
              <a:t>cuticle</a:t>
            </a:r>
            <a:r>
              <a:rPr b="0" lang="en-US" sz="3200" spc="-1" strike="noStrike">
                <a:solidFill>
                  <a:srgbClr val="ffffff"/>
                </a:solidFill>
                <a:latin typeface="Army Condensed"/>
              </a:rPr>
              <a:t> or through the </a:t>
            </a:r>
            <a:r>
              <a:rPr b="1" i="1" lang="en-US" sz="3200" spc="-1" strike="noStrike">
                <a:solidFill>
                  <a:srgbClr val="003399"/>
                </a:solidFill>
                <a:latin typeface="Army Condensed"/>
              </a:rPr>
              <a:t>lenticels</a:t>
            </a:r>
            <a:r>
              <a:rPr b="0" lang="en-US" sz="3200" spc="-1" strike="noStrike">
                <a:solidFill>
                  <a:srgbClr val="ffffff"/>
                </a:solidFill>
                <a:latin typeface="Army Condensed"/>
              </a:rPr>
              <a:t> in woody 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eltron Urb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Weltron Urban"/>
              </a:rPr>
              <a:t>Three main sites</a:t>
            </a:r>
            <a:r>
              <a:rPr b="0" lang="en-US" sz="3200" spc="-1" strike="noStrike">
                <a:solidFill>
                  <a:srgbClr val="ffffff"/>
                </a:solidFill>
                <a:latin typeface="Weltron Urban"/>
              </a:rPr>
              <a:t> of transpiration are</a:t>
            </a:r>
            <a:r>
              <a:rPr b="0" lang="en-US" sz="2800" spc="-1" strike="noStrike">
                <a:solidFill>
                  <a:srgbClr val="ffffff"/>
                </a:solidFill>
                <a:latin typeface="Weltron Urb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Weltron Urb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Weltron Urban"/>
              </a:rPr>
              <a:t>STOMATA </a:t>
            </a:r>
            <a:r>
              <a:rPr b="0" lang="en-US" sz="2600" spc="-1" strike="noStrike">
                <a:solidFill>
                  <a:srgbClr val="ffffff"/>
                </a:solidFill>
                <a:latin typeface="Weltron Urban"/>
              </a:rPr>
              <a:t>– 90% of transpiration takes place through minute pores on leaves called stom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Weltron Urb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Weltron Urban"/>
              </a:rPr>
              <a:t>CUTICLE</a:t>
            </a:r>
            <a:r>
              <a:rPr b="0" lang="en-US" sz="2600" spc="-1" strike="noStrike">
                <a:solidFill>
                  <a:srgbClr val="ffffff"/>
                </a:solidFill>
                <a:latin typeface="Weltron Urban"/>
              </a:rPr>
              <a:t> – 10% of transpiration takes place through the cuticle. The amount of water loss varies with the thickness of the waxy cu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Weltron Urb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Weltron Urban"/>
              </a:rPr>
              <a:t>LENTICELS</a:t>
            </a:r>
            <a:r>
              <a:rPr b="0" lang="en-US" sz="2600" spc="-1" strike="noStrike">
                <a:solidFill>
                  <a:srgbClr val="ffffff"/>
                </a:solidFill>
                <a:latin typeface="Weltron Urban"/>
              </a:rPr>
              <a:t> – small pores in the stem which allow gaseous exchange. Only small amounts of water are lost through the lentic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hangh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anghai"/>
              </a:rPr>
              <a:t>Transpiration occurs mainly during the day when the stomata are ope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hangh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anghai"/>
              </a:rPr>
              <a:t>Heat from the sun causes the water to evaporate from the walls of the spongy mesophyll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hangh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anghai"/>
              </a:rPr>
              <a:t>The water vapour accumulates in the substomatal air chambers before diffusing from the plant through the open s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 Lolita Scorn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 Lolita Scorned"/>
              </a:rPr>
              <a:t>Water move into the mesophyll cells by osmosis from the adjacent c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 Lolita Scorn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 Lolita Scorned"/>
              </a:rPr>
              <a:t>Water flows from the xylem vessels along a chain of cells to the outermost mesophyll ce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 Lolita Scorn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 Lolita Scorned"/>
              </a:rPr>
              <a:t>Water is pulled through the xylem vessels from the root to the leav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5:57Z</dcterms:created>
  <dc:creator>MUHD FAZLI &amp; NOORUL WAHIDAH</dc:creator>
  <dc:description/>
  <dc:language>en-US</dc:language>
  <cp:lastModifiedBy>FAZLI &amp; WAWA </cp:lastModifiedBy>
  <dcterms:modified xsi:type="dcterms:W3CDTF">2008-03-17T23:50:43Z</dcterms:modified>
  <cp:revision>57</cp:revision>
  <dc:subject/>
  <dc:title>Slide 1</dc:title>
</cp:coreProperties>
</file>