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CA3-A077-45AD-93FA-35F9EA64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3C4-B8A7-4ADD-A4BE-ABF4F78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180-B00C-4B27-8C2A-000D256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A1A-5CEF-4BF2-9C9E-A630AE90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B58-5587-4381-8E15-C76110BF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A8B-DEB1-459E-89A1-B40A0E76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E20-B6CE-4A24-952C-760A0EEC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00E-C929-43B4-AB07-2D65ED0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227-F980-4257-8D53-4AB7030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7F7-45E1-4E6B-87C5-9C61902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CB7-B60A-46C9-9CFB-34BD06C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0DD-CAED-439D-9A13-07398A8F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4E85-5D1A-4970-89F7-8981032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CB87-E1F6-455B-9968-936C172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0120-194C-474C-A448-716A4107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655-CA45-4C0D-86A6-666BEF3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3457-921C-425A-AB81-67880E5D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0B17-AE52-4170-9FC2-B2C54E8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5FA7-5F63-4D43-8CA1-8AB15E7F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4D1F-E5A1-42DA-B459-D008464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90C3-9B6E-469E-B2EC-859177B0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CAEB-C80A-4479-8F62-574D0C5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FEE-5A43-49A4-A186-394A188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6380-3538-43DE-84A9-9CE5FA9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5CA2-0465-4DEF-A3B7-895E8AC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2F31-A117-4A91-A09D-2F989E0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9411-5DF7-48EF-ADF1-796775D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768C-AD78-4F7A-A63A-67ADDC9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21BB-090A-49E4-BFDE-EEB71987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EB40-88A9-48CE-8624-551B408E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C579-D443-4731-B94D-5699899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074B-C340-48CE-B631-C97A7D2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4E79-ED0B-4EA9-B852-90EEE24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8E9-CA3A-433B-97DC-FD65BFF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FE60-7A31-4F16-B5D5-5E2543A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FC64-A9D2-4043-BEC2-0C22059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4CB8-8634-4988-A806-C60F0544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7AAD-70D9-4CE2-9EC7-DCA0CA6B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FE08-5DE3-4FF2-AA36-59371981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BCBE-F75E-4565-8DFB-25E76D5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67D0-1899-4F8A-A799-24FC268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19B5-7471-4251-B6A8-5C4B5AC6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BFA9-00E1-498A-8D61-4E0DFDEF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07B5-9883-415B-8E17-46B051B2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E5C-22AF-4B8C-871F-0966EB5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E3FB-F134-49D3-BCA9-E4A71A8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682D-A961-4E38-96AD-939449B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8A1D-3514-4236-A281-0896936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9CA9-CA4C-4812-ABBD-A9BA6A0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D8ED-E89E-462A-B5F4-E7F5991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8D20B-B449-4713-8998-3EE2473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A163-3ADF-436F-BB2D-66B22A3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527C-5CA2-4B3C-96DE-4CC752B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E5C4-96BF-4E55-BA50-DB2609C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F5693-7CFC-4996-8A50-8F8DFFE7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73A-56BD-42EF-9D62-8846138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F7C0-8FC5-4CD6-AA05-C91A958B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168F-F6ED-4BB4-9901-E61552D6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1581-0796-4FF5-BA3D-CCA513BC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3338-EE24-414F-9F49-8CDCCD7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F540-448B-40E4-AFB7-D97BA430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17BB-7BF0-4195-A8C5-CCB22E2E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6E2B-68D2-4781-A3F3-02AC4A40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FC2C-5D71-4098-AA77-D19BB53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755A-D979-4773-B57E-84E3E65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B1F2-455C-4484-AC99-7B49311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86E-1904-4014-8201-4323AE7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C1A7-5B17-4C40-8FEF-83F357F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0697-D6A7-46CE-8563-E8EF565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857B-8B05-4BC4-B772-BEEF3D8C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E5536-4CBA-4277-848F-010B1221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4BEA2-251D-4EB0-BA46-D2CAB0A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8A1A-0744-400D-A55F-1EBA19F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CB556-69BA-4588-AA1C-A3B1F191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2650-7C20-4478-B584-1B70B46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E548-3F53-44EA-8522-659F2B1B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A9D9-565F-4A9B-ABAE-AA0553D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0B2-28F3-4EE9-A80D-B8A5DD3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E3D7-44CE-4BD7-9DB0-12295B6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801A-7B12-4278-ACD7-9262EFC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20372-C035-46C3-A617-086DC43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C875-5FCB-4E1A-A818-CD2D52D0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B4DB-B5FC-4A04-97DD-9F833007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4135-8AFE-4600-B76E-A7C90334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F282A-1985-4156-BDD9-FECFD2E7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0F404-B204-4695-AEE3-A60EBD46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96363-9CA9-460C-868C-A07B20B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C1041-ED06-4FD8-A6A4-C4BA7E2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7AB-D095-4DE5-9EC3-CC92404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3692-E177-456D-AF9A-CE87BD1E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7082-D180-40A8-BB8C-DD63E9A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A6D6-D62C-4E89-877B-FE94D7F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2610E-31DC-4636-B6C8-97062E0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2C8D-6E9E-4C85-93F7-31B7EB8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0499-93E8-46F5-ACB7-FD436DFB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124BE-A488-4A4A-892E-AE1AE8C1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5D0-F8C2-4603-A2D5-EB7BF658F41F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3A87-B634-4866-A35E-F480E45ABB4E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AF0-EDDD-43C0-8A12-26A1F6737DCC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CDC-D84B-4D1C-B391-DAC0418C0A28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B00-CA28-4FF2-AA3E-D6F524A8EB2D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047-B658-45A8-9F44-3AFC6891FBC9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013D-B9F4-422B-8B21-5D606246962D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401E-CFFD-4408-9482-A81C3B595B86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440" y="3611160"/>
            <a:ext cx="7815240" cy="146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64646"/>
                </a:solidFill>
                <a:latin typeface="Lucida Sans Unicode"/>
              </a:rPr>
              <a:t>Prof Mayar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64646"/>
                </a:solidFill>
                <a:latin typeface="Lucida Sans Unicode"/>
              </a:rPr>
              <a:t>Débutant 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55640" y="333360"/>
          <a:ext cx="7561440" cy="4419720"/>
        </p:xfrm>
        <a:graphic>
          <a:graphicData uri="http://schemas.openxmlformats.org/drawingml/2006/table">
            <a:tbl>
              <a:tblPr/>
              <a:tblGrid>
                <a:gridCol w="1871640"/>
                <a:gridCol w="2592360"/>
                <a:gridCol w="1152720"/>
                <a:gridCol w="1296720"/>
                <a:gridCol w="648000"/>
              </a:tblGrid>
              <a:tr h="13136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J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de verb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ON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avec prépositions: avec toi, pour moi, à lui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 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/M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/M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rowSpan="6"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O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/T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/T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L/ELLE/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UI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/E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/LA/L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LS/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UX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/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357200"/>
            <a:ext cx="88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COI: </a:t>
            </a:r>
            <a:r>
              <a:rPr b="0" i="1" lang="fr-FR" sz="2700" spc="-1" strike="noStrike">
                <a:solidFill>
                  <a:srgbClr val="000000"/>
                </a:solidFill>
                <a:latin typeface="Lucida Sans Unicode"/>
              </a:rPr>
              <a:t>À + COMPLÉMENT (</a:t>
            </a:r>
            <a:r>
              <a:rPr b="0" i="1" lang="fr-FR" sz="2700" spc="-1" strike="noStrike">
                <a:solidFill>
                  <a:srgbClr val="b54a10"/>
                </a:solidFill>
                <a:latin typeface="Lucida Sans Unicode"/>
              </a:rPr>
              <a:t>ou d’autres préposition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EX: JE TÉLÉPHONN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À SOPH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JE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LUI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TÉLÉPHON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COD: </a:t>
            </a:r>
            <a:r>
              <a:rPr b="0" i="1" lang="fr-FR" sz="2700" spc="-1" strike="noStrike">
                <a:solidFill>
                  <a:srgbClr val="000000"/>
                </a:solidFill>
                <a:latin typeface="Lucida Sans Unicode"/>
              </a:rPr>
              <a:t>COMPLÉMENT </a:t>
            </a:r>
            <a:r>
              <a:rPr b="1" i="1" lang="fr-F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NS PRÉ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EX: J’AID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MA MÈ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J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L’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A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95280" y="692280"/>
          <a:ext cx="8229600" cy="534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0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C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9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cheter à              apport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demander à          di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distribuer à           donn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écrire à                 enlev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envoyer à              ment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montrer à              obé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offrir à                   parl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laire à                  prend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rêter à                 racont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dre à                répond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uhaiter à            téléphon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dress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’ÉCRIS UNE LETTRE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MA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LUI</a:t>
                      </a:r>
                      <a:r>
                        <a:rPr b="0" lang="fr-FR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ÉCRIS UNE LET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adresser 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PA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76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95280" y="692280"/>
          <a:ext cx="8496360" cy="4537080"/>
        </p:xfrm>
        <a:graphic>
          <a:graphicData uri="http://schemas.openxmlformats.org/drawingml/2006/table">
            <a:tbl>
              <a:tblPr/>
              <a:tblGrid>
                <a:gridCol w="4535640"/>
                <a:gridCol w="3960720"/>
              </a:tblGrid>
              <a:tr h="40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+ Y (C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 (PERS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2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U PENSERAS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NOTRE SITUATION</a:t>
                      </a:r>
                      <a:r>
                        <a:rPr b="0" lang="fr-FR" sz="24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UI, J’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PENSE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adresser 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PA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78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95280" y="1125360"/>
          <a:ext cx="8496360" cy="5187960"/>
        </p:xfrm>
        <a:graphic>
          <a:graphicData uri="http://schemas.openxmlformats.org/drawingml/2006/table">
            <a:tbl>
              <a:tblPr/>
              <a:tblGrid>
                <a:gridCol w="4535640"/>
                <a:gridCol w="396072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+ DE (C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 (PERS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7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e souveni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peu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occup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être fi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besoin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MA 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’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UIS F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e souveni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peu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occup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être fi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besoin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MON F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95280" y="1125360"/>
          <a:ext cx="8496360" cy="5187960"/>
        </p:xfrm>
        <a:graphic>
          <a:graphicData uri="http://schemas.openxmlformats.org/drawingml/2006/table">
            <a:tbl>
              <a:tblPr/>
              <a:tblGrid>
                <a:gridCol w="3960720"/>
                <a:gridCol w="453564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7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Verbes+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Penseras-tu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e fair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penser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Mes clés sont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sur la tabl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Oui, elle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s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Verbes+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as besoin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a voitur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 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ai beso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CL AVEC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vien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Paris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v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OD introduit par un article indéfini (un, une des) ou partitif (du, de la, des, d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a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'argent 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'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ai 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2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le est allée seule au jardin pub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Elle y est allée seu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Nous venons de l’Amérique du Su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Nous en ven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l adore les films d’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Il les ado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fais mes exercices tous les jo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les fais tous les jo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les parlent beaucoup de lang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Elles en parl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Vous connaissez la cuisine brésilien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Vous la connaiss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ls ne connaissent pas les pays africa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Il ne les connaisent 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ne suis pas monté sur la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Je n’y suis pas mont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0:36:09Z</dcterms:created>
  <dc:creator>usuario</dc:creator>
  <dc:description/>
  <dc:language>en-US</dc:language>
  <cp:lastModifiedBy>mayara linhares de sousa</cp:lastModifiedBy>
  <dcterms:modified xsi:type="dcterms:W3CDTF">2014-04-12T02:30:48Z</dcterms:modified>
  <cp:revision>24</cp:revision>
  <dc:subject/>
  <dc:title>LES PRONOMS</dc:title>
</cp:coreProperties>
</file>