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00C-9F5E-4003-B0F1-CB4B9AFA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70D-A66B-4102-8B2D-A8A3DF35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FAC-6D9E-46CB-9D82-377686E7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BFB-33B1-4EA3-A435-4FFE2504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3914-784B-4CF3-ADCA-811CB3EC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9851-63F4-463A-B9EE-B2F80C81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F0A-66DC-4C13-8C33-472F197A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B0D-0863-481E-97AD-F68E1811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31AE-1770-4609-A352-6001F0D1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B500-2C05-4068-8BBE-81068110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688D-BA9B-49DE-8989-138BC2C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7B3-FEDD-45A7-B0DC-5F136D0F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8AF4-7E26-400B-97D6-7AB2989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317-1424-4E46-8594-491EC73F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E292-D2F9-445A-BB75-F1758E68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9053-6E49-4FD1-B74C-6DBD3B1D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86F6-C800-4DDC-979A-5AC03123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822E-307A-48CD-A276-55D66A5D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08B1-3873-445F-8DCC-583870AB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6AE5-C38C-41C8-BA3F-F2CA519B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7202-772A-43B7-8873-DB21DBA4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AC57-0DCB-442B-8997-BF617EA1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349-BD42-4E15-981D-2C6C045C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E5A4-564A-4A53-B2F5-342074CF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ABCD-B4CB-4986-ADCB-29E1D708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4B59-AC2F-42B2-B2F0-20CD968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387D-6A9B-4C6D-B660-AEC64ED9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36D3-EF69-41A1-B63D-D0E4CB6B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3E5A-C7E1-4BC4-A03D-4B68D53D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9E333-0FD8-48E2-87FA-95951C61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3645-9763-41D2-ACFF-E2B7A847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DF234-235F-4D0B-A9F1-74561FA9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BDE5-1707-4DBB-836B-0BDE5C04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B6D-639C-44FF-92BD-B70E0E6B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2BA91-4CEF-49AF-A306-18E4511F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6B6D-5332-4E90-BEBB-6ED6567A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5F46-ED06-4543-ABBA-2F2315D2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2D3C-5520-4476-956D-13B705FE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8813-20A1-4644-982A-D5916820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CC39-4B25-4B1F-A591-F1FA400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27C6-6CEC-4A9A-B049-23712D9A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83D17-6BD9-4365-9882-220B7273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5AC7-9587-4A74-BFFF-7B962786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1FD6-2BBC-49D7-8FBB-0CB4CA03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A0D-7657-4E34-B92B-A89EB503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9D80A-70C3-45A8-9848-19756477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5868-4ACB-41D3-BF39-BD819352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8116E-F216-4916-9A06-3C958CC3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57432-E59F-43EA-B673-2468A04A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1D41-2829-4D2F-A27D-8238E018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8D4F5-64F7-4CFF-96E8-7446B53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1C20-BC36-45F6-8110-070C08E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C398-3C15-418E-A41D-BF068B42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0893B-EDCC-4E58-9CE4-A933E283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48895-91A4-43B2-BF90-700FC062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577-4EFA-488F-BDB6-0EB8521A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3E7E-3E13-4C9B-9B87-E83181A9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0EFB-94E3-4166-8E67-E7DDBC0C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6546-BDFF-4203-9ECB-3DA50979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11A17-887E-4FCA-8E03-06EAC3F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8FA7-2C81-44B8-8B17-BCECD792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B5F75-0B07-40BA-B1CB-AFCB4E09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7A82-DA84-47A7-8ADF-3C7B1449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AB23-EA57-4C73-9FA3-9329E1DE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0B28C-3A2F-415F-8D61-E70E8878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A285E-0659-4195-B80D-261E034A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69E-2BFE-439F-A34F-E2862951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936A9-8665-43B4-B7EE-556B8CE6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6D281-DCC0-45F0-8FE0-9FFFA650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C56D-775B-4AE7-9E46-F9236468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5A9B8-1A46-4D75-97E6-3ABEA850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9623-5FAA-4470-863E-9CB2E1DD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5CBD3-1082-44AD-867F-1F69CB9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CDE66-D735-476A-9313-DD61F66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C0A6F-3FB7-47D0-B54B-2D0E700D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EBA39-1430-45C5-A083-03F559EF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D805C-3A0B-4C78-9382-9D2C5EE1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601-0DB6-41EF-B555-3E209493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8B49-9AF5-44EB-B50F-BD4024FD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2EA7B-568B-4105-852E-37CB7DF3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A927-3408-4B87-A6A5-A4326E20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2334A-1C62-4850-A2D9-AA90D215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5136-CF6A-41C4-9E5A-3A0A1E8E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79B1F-36C2-4E2E-B304-486D8935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FFE25-F5FE-40BC-9D85-655C601F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7ED3-4313-4820-854D-488B81AF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52D1-114D-4C38-A67E-F418D69E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2790A-6615-4606-80B5-757277EB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AB7-F60F-4930-A490-83D051B7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F558E-7AEA-46CF-AEBC-BB41B9FC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29A1B-BDFE-4C5F-810D-6ED99B8A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75A23-033D-4EA1-A265-EB43AA7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554C-FA6B-400E-BD2C-2879689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66268-7C31-4BF5-8999-04EFAE42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9DE7A-EC92-43A1-B9B5-336F0F32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1F15A-D6EB-44C9-BCD0-7D7AB653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EF89-4840-4741-B0E4-9AF9F940F5DD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D4FF-5C5D-4C3C-9502-38A747BD3D06}" type="slidenum"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5E06-129E-43B3-B26F-BA6B8A682C60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E76E-DCAE-4586-86E0-8A32BB65E9AA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AC87-19D6-425C-B9AE-8C37F4098E56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FDEF-49DF-47F0-968E-0D3303B6DB89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6365-4E5B-4F1B-B6BF-C86DCEDE1BC4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64AB-428A-4EE7-A0A4-CFA94DA1F912}" type="slidenum"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440" y="3611160"/>
            <a:ext cx="7815240" cy="1460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64646"/>
                </a:solidFill>
                <a:latin typeface="Lucida Sans Unicode"/>
              </a:rPr>
              <a:t>Prof Mayar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64646"/>
                </a:solidFill>
                <a:latin typeface="Lucida Sans Unicode"/>
              </a:rPr>
              <a:t>Débutant 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ítulo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55640" y="333360"/>
          <a:ext cx="7561440" cy="4419720"/>
        </p:xfrm>
        <a:graphic>
          <a:graphicData uri="http://schemas.openxmlformats.org/drawingml/2006/table">
            <a:tbl>
              <a:tblPr/>
              <a:tblGrid>
                <a:gridCol w="1871640"/>
                <a:gridCol w="2592360"/>
                <a:gridCol w="1152720"/>
                <a:gridCol w="1296720"/>
                <a:gridCol w="648000"/>
              </a:tblGrid>
              <a:tr h="131364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J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de verb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ON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avec prépositions: avec toi, pour moi, à lui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 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/M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/M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rowSpan="6"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O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/T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/T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L/ELLE/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UI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/E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/LA/L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LS/EL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UX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/EL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357200"/>
            <a:ext cx="8858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COI: </a:t>
            </a:r>
            <a:r>
              <a:rPr b="0" i="1" lang="fr-FR" sz="2700" spc="-1" strike="noStrike">
                <a:solidFill>
                  <a:srgbClr val="000000"/>
                </a:solidFill>
                <a:latin typeface="Lucida Sans Unicode"/>
              </a:rPr>
              <a:t>À + COMPLÉMENT (</a:t>
            </a:r>
            <a:r>
              <a:rPr b="0" i="1" lang="fr-FR" sz="2700" spc="-1" strike="noStrike">
                <a:solidFill>
                  <a:srgbClr val="b54a10"/>
                </a:solidFill>
                <a:latin typeface="Lucida Sans Unicode"/>
              </a:rPr>
              <a:t>ou d’autres préposition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EX: JE TÉLÉPHONNE </a:t>
            </a:r>
            <a:r>
              <a:rPr b="0" lang="fr-FR" sz="2700" spc="-1" strike="noStrike" u="sng">
                <a:solidFill>
                  <a:srgbClr val="2da2bf"/>
                </a:solidFill>
                <a:uFillTx/>
                <a:latin typeface="Lucida Sans Unicode"/>
              </a:rPr>
              <a:t>À SOPH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                            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JE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lang="fr-FR" sz="2700" spc="-1" strike="noStrike" u="sng">
                <a:solidFill>
                  <a:srgbClr val="2da2bf"/>
                </a:solidFill>
                <a:uFillTx/>
                <a:latin typeface="Lucida Sans Unicode"/>
              </a:rPr>
              <a:t>LUI 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TÉLÉPHON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COD: </a:t>
            </a:r>
            <a:r>
              <a:rPr b="0" i="1" lang="fr-FR" sz="2700" spc="-1" strike="noStrike">
                <a:solidFill>
                  <a:srgbClr val="000000"/>
                </a:solidFill>
                <a:latin typeface="Lucida Sans Unicode"/>
              </a:rPr>
              <a:t>COMPLÉMENT </a:t>
            </a:r>
            <a:r>
              <a:rPr b="1" i="1" lang="fr-F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ANS PRÉ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EX: J’AIDE </a:t>
            </a:r>
            <a:r>
              <a:rPr b="0" lang="fr-FR" sz="2700" spc="-1" strike="noStrike" u="sng">
                <a:solidFill>
                  <a:srgbClr val="2da2bf"/>
                </a:solidFill>
                <a:uFillTx/>
                <a:latin typeface="Lucida Sans Unicode"/>
              </a:rPr>
              <a:t>MA MÈ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JE </a:t>
            </a:r>
            <a:r>
              <a:rPr b="0" lang="fr-FR" sz="2700" spc="-1" strike="noStrike" u="sng">
                <a:solidFill>
                  <a:srgbClr val="2da2bf"/>
                </a:solidFill>
                <a:uFillTx/>
                <a:latin typeface="Lucida Sans Unicode"/>
              </a:rPr>
              <a:t>L’</a:t>
            </a:r>
            <a:r>
              <a:rPr b="0" lang="fr-FR" sz="2700" spc="-1" strike="noStrike">
                <a:solidFill>
                  <a:srgbClr val="000000"/>
                </a:solidFill>
                <a:latin typeface="Lucida Sans Unicode"/>
              </a:rPr>
              <a:t>A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2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95280" y="692280"/>
          <a:ext cx="8229600" cy="534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0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 C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+ P 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93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cheter à              apport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demander à          dire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distribuer à           donn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écrire à                 enlev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envoyer à              ment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montrer à              obé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offrir à                   parl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laire à                  prendre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rêter à                 racont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rendre à                répondre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ouhaiter à            téléphon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dress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’ÉCRIS UNE LETTRE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MA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LUI</a:t>
                      </a:r>
                      <a:r>
                        <a:rPr b="0" lang="fr-FR" sz="20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ÉCRIS UNE LET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en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intéres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ong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faire attention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ten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habitu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renonc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adresser 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PENSE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PA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PENSE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L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76" name="2 Título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95280" y="692280"/>
          <a:ext cx="8496360" cy="4537080"/>
        </p:xfrm>
        <a:graphic>
          <a:graphicData uri="http://schemas.openxmlformats.org/drawingml/2006/table">
            <a:tbl>
              <a:tblPr/>
              <a:tblGrid>
                <a:gridCol w="4535640"/>
                <a:gridCol w="3960720"/>
              </a:tblGrid>
              <a:tr h="40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 + Y (CH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+ P TONIQUE (PERSON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12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en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intéres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ong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faire attention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ten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habitu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renonc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U PENSERAS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NOTRE SITUATION</a:t>
                      </a:r>
                      <a:r>
                        <a:rPr b="0" lang="fr-FR" sz="24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UI, J’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Y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PENSER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pen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intéress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ong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faire attention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teni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habituer à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renoncer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adresser 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PENSE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PA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PENSE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L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78" name="2 Título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395280" y="1125360"/>
          <a:ext cx="8496360" cy="5187960"/>
        </p:xfrm>
        <a:graphic>
          <a:graphicData uri="http://schemas.openxmlformats.org/drawingml/2006/table">
            <a:tbl>
              <a:tblPr/>
              <a:tblGrid>
                <a:gridCol w="4535640"/>
                <a:gridCol w="3960720"/>
              </a:tblGrid>
              <a:tr h="4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 + DE (CH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ERBES+ P TONIQUE (PERSON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77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e souveni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voir peu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occupe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être fie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voir besoin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SUIS FIER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MA 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 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’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EN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UIS FI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e souveni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voir peu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s’occupe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être fier d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avoir besoin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SUIS FIER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MON FI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SUIS FIER </a:t>
                      </a:r>
                      <a:r>
                        <a:rPr b="1" lang="fr-FR" sz="24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L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395280" y="1125360"/>
          <a:ext cx="8496360" cy="5187960"/>
        </p:xfrm>
        <a:graphic>
          <a:graphicData uri="http://schemas.openxmlformats.org/drawingml/2006/table">
            <a:tbl>
              <a:tblPr/>
              <a:tblGrid>
                <a:gridCol w="3960720"/>
                <a:gridCol w="4535640"/>
              </a:tblGrid>
              <a:tr h="4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77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Verbes+ 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Penseras-tu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à le faire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 Oui, j’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y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 penser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C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Mes clés sont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sur la table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Oui, elles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y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 s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Verbes+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Tu as besoin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la voiture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 Oui, j’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en 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ai beso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CCL AVEC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Tu viens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Paris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 Oui, j’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en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 v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da1f28"/>
                          </a:solidFill>
                          <a:latin typeface="Lucida Sans Unicode"/>
                        </a:rPr>
                        <a:t>COD introduit par un article indéfini (un, une des) ou partitif (du, de la, des, d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Tu as 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de l'argent 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? Oui, j'</a:t>
                      </a:r>
                      <a:r>
                        <a:rPr b="1" lang="fr-FR" sz="2000" spc="-1" strike="noStrike" u="sng">
                          <a:solidFill>
                            <a:srgbClr val="227a8f"/>
                          </a:solidFill>
                          <a:uFillTx/>
                          <a:latin typeface="Lucida Sans Unicode"/>
                        </a:rPr>
                        <a:t>en</a:t>
                      </a:r>
                      <a:r>
                        <a:rPr b="0" lang="fr-FR" sz="2000" spc="-1" strike="noStrike">
                          <a:solidFill>
                            <a:srgbClr val="227a8f"/>
                          </a:solidFill>
                          <a:latin typeface="Lucida Sans Unicode"/>
                        </a:rPr>
                        <a:t> ai 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82" name="2 Título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lle est allée seule au jardin publ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Elle y est allée seu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Nous venons de l’Amérique du Su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Nous en ven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l adore les films d’a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Il les ado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Je fais mes exercices tous les jo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Je les fais tous les jo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ítulo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Elles parlent beaucoup de lang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Elles en parl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Vous connaissez la cuisine brésilien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Vous la connaiss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Ils ne connaissent pas les pays africa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Il ne les connaisent 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Je ne suis pas monté sur la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c00000"/>
                </a:solidFill>
                <a:latin typeface="Lucida Sans Unicode"/>
              </a:rPr>
              <a:t>Je n’y suis pas mont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ítulo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0:36:09Z</dcterms:created>
  <dc:creator>usuario</dc:creator>
  <dc:description/>
  <dc:language>en-US</dc:language>
  <cp:lastModifiedBy>mayara linhares de sousa</cp:lastModifiedBy>
  <dcterms:modified xsi:type="dcterms:W3CDTF">2014-04-12T02:30:48Z</dcterms:modified>
  <cp:revision>24</cp:revision>
  <dc:subject/>
  <dc:title>LES PRONOMS</dc:title>
</cp:coreProperties>
</file>